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51A-6744-4295-AEFE-F6388F16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F2A-34DE-49A2-8F03-8A369AB3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B62-4B0F-422F-BA18-5B42AD5D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9BE-EC06-4B88-8777-D00C47D8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81A-F883-41B3-A2A6-8A659594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089-7A7B-4992-A85C-32ED9996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707-57B7-4287-8775-26EE2C2A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112-9A7E-41EF-945D-90F12B9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4CB-6D10-49C1-BF16-89C3C41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5C3-AB30-4B2F-9ED0-581E758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809-534C-48CD-96C0-DA2EC05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535-EC94-4CDF-B866-D7F4411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FB6C-6417-4933-8B8F-016D1391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2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4" action="ppaction://hlinksldjump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90512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13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2193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hlinkClick r:id="rId29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198936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ce crystals tossed up and down forming layers before they fall to the g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a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44809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presents th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915080" cy="329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cumul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the lowest cloud found in the 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trat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417636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presents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67080" cy="269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07764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tratus cloud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cloud brings rain or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nimbostrat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0823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zen, falling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52430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oks like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81680" cy="4305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cirrus c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instrument used to measure air press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barome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484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6476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oks like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rain gau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29001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7162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 instrument used to measure humid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ling psychromete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09076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oks like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32511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n anemome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n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6200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kind of front that forms when a cold air mass moves underneath a warm air m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cold fro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42289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symbol represents this type of wea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724280" cy="240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dry and cle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irection that most weather conditions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 is west to ea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40381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represen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21280" cy="209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 stationary fro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develops along a cold fro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2714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thunderst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27190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raindrops are very sm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rediction of what weather will be like for the next few d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234720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 a weather foreca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234792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average of weather over a long period of ti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clima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198792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force produced by the weight of the air pressing down on the ear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ir pressu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ir in mo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wi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71296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oundary between air mas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fro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drizz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arm, moist a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umidit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0200" y="259056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brief period of rainf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0776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show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234936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now  that melts and refreezes before it hits the g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0808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sle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Kevin Butler-Grant County High School</dc:creator>
  <dc:description/>
  <dc:language>en-US</dc:language>
  <cp:lastModifiedBy>Edgewood User</cp:lastModifiedBy>
  <dcterms:modified xsi:type="dcterms:W3CDTF">2008-12-13T19:50:18Z</dcterms:modified>
  <cp:revision>43</cp:revision>
  <dc:subject/>
  <dc:title>Napoleon</dc:title>
</cp:coreProperties>
</file>